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3CE-E979-4E51-B4A3-B89DDE54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ADB-059C-4B4D-B41E-4FF007A1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A72-CE5E-4C17-98A8-3B0B18D2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E56-4EB6-4EE4-938D-AFB2FCEE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C21-F3A1-4ADC-A3ED-A5CB4B6C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F1F-4808-4CF0-9B1F-095A21F2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755-2132-48DD-BE24-F2789E0F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692-EB9A-4789-8114-41430D92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B5FC-39CD-4BF3-8D1E-0273816F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F18-766D-4D0B-A00F-8D80475F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35B-12AA-44C9-A046-C5D8F45E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6AA-6E8E-441A-8531-8D591ECD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AA7C-164F-4AF2-B27A-11DF5FA5D3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inregion19.ru/assets/files/docs/kapremont/2014/01_soobch.doc.zip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inregion19.ru/assets/files/docs/kapremont/2014/02_reesrt_registr.doc.zip" TargetMode="External"/><Relationship Id="rId2" Type="http://schemas.openxmlformats.org/officeDocument/2006/relationships/hyperlink" Target="http://minregion19.ru/assets/files/docs/kapremont/2014/02_reesrt_registr.doc.zip" TargetMode="External"/><Relationship Id="rId3" Type="http://schemas.openxmlformats.org/officeDocument/2006/relationships/hyperlink" Target="http://minregion19.ru/assets/files/docs/kapremont/2014/02_reesrt_registr.doc.zip" TargetMode="External"/><Relationship Id="rId4" Type="http://schemas.openxmlformats.org/officeDocument/2006/relationships/hyperlink" Target="http://minregion19.ru/assets/files/docs/kapremont/2014/02_reesrt_registr.doc.zip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inregion19.ru/assets/files/docs/kapremont/2014/03_soobch_zaoch.zip" TargetMode="External"/><Relationship Id="rId2" Type="http://schemas.openxmlformats.org/officeDocument/2006/relationships/hyperlink" Target="http://minregion19.ru/assets/files/docs/kapremont/2014/03_soobch_zaoch.zip" TargetMode="External"/><Relationship Id="rId3" Type="http://schemas.openxmlformats.org/officeDocument/2006/relationships/hyperlink" Target="http://minregion19.ru/assets/files/docs/kapremont/2014/03_soobch_zaoch.zip" TargetMode="External"/><Relationship Id="rId4" Type="http://schemas.openxmlformats.org/officeDocument/2006/relationships/hyperlink" Target="http://minregion19.ru/assets/files/docs/kapremont/2014/03_soobch_zaoch.zip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6840" y="1285920"/>
            <a:ext cx="82580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Helios regular"/>
                <a:ea typeface="Tahoma"/>
              </a:rPr>
              <a:t>	</a:t>
            </a:r>
            <a:r>
              <a:rPr b="0" i="1" lang="ru-RU" sz="1800" spc="-1" strike="noStrike">
                <a:solidFill>
                  <a:srgbClr val="ff0000"/>
                </a:solidFill>
                <a:latin typeface="Helios regular"/>
                <a:ea typeface="Tahoma"/>
              </a:rPr>
              <a:t>Официальное опубликование Программы смотрите на сайт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1" lang="en-US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1" lang="en-US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1" lang="en-US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1" lang="en-US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1" lang="ru-RU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Правительство Республики Хакас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1" lang="ru-RU" sz="1700" spc="-1" strike="noStrike">
                <a:solidFill>
                  <a:srgbClr val="404040"/>
                </a:solidFill>
                <a:latin typeface="Helios regular"/>
                <a:ea typeface="Tahoma"/>
              </a:rPr>
              <a:t>Министерство регионального развития </a:t>
            </a:r>
            <a:r>
              <a:rPr b="1" lang="ru-RU" sz="17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1" lang="ru-RU" sz="17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1" lang="ru-RU" sz="17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1" lang="ru-RU" sz="17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1" lang="ru-RU" sz="1700" spc="-1" strike="noStrike">
                <a:solidFill>
                  <a:srgbClr val="404040"/>
                </a:solidFill>
                <a:latin typeface="Helios regular"/>
                <a:ea typeface="Tahoma"/>
              </a:rPr>
              <a:t>Республики Хакас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1" lang="ru-RU" sz="1700" spc="-1" strike="noStrike">
                <a:solidFill>
                  <a:srgbClr val="404040"/>
                </a:solidFill>
                <a:latin typeface="Helios regular"/>
                <a:ea typeface="Tahoma"/>
              </a:rPr>
              <a:t>Региональный оператор –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1" lang="en-US" sz="17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1" lang="en-US" sz="17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1" lang="en-US" sz="17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1" lang="en-US" sz="1700" spc="-1" strike="noStrike">
                <a:solidFill>
                  <a:srgbClr val="404040"/>
                </a:solidFill>
                <a:latin typeface="Helios regular"/>
                <a:ea typeface="Tahoma"/>
              </a:rPr>
              <a:t>	</a:t>
            </a:r>
            <a:r>
              <a:rPr b="1" lang="ru-RU" sz="1700" spc="-1" strike="noStrike">
                <a:solidFill>
                  <a:srgbClr val="404040"/>
                </a:solidFill>
                <a:latin typeface="Helios regular"/>
                <a:ea typeface="Tahoma"/>
              </a:rPr>
              <a:t>Фонд</a:t>
            </a:r>
            <a:r>
              <a:rPr b="1" lang="en-US" sz="1700" spc="-1" strike="noStrike">
                <a:solidFill>
                  <a:srgbClr val="404040"/>
                </a:solidFill>
                <a:latin typeface="Helios regular"/>
                <a:ea typeface="Tahoma"/>
              </a:rPr>
              <a:t> </a:t>
            </a:r>
            <a:r>
              <a:rPr b="1" lang="ru-RU" sz="1700" spc="-1" strike="noStrike">
                <a:solidFill>
                  <a:srgbClr val="404040"/>
                </a:solidFill>
                <a:latin typeface="Helios regular"/>
                <a:ea typeface="Tahoma"/>
              </a:rPr>
              <a:t>капитального ремонта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3040" y="290160"/>
            <a:ext cx="7297920" cy="986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29960" rIns="129960" tIns="65160" bIns="6516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97080"/>
                <a:tab algn="l" pos="2593800"/>
                <a:tab algn="l" pos="3890880"/>
                <a:tab algn="l" pos="5187960"/>
                <a:tab algn="l" pos="6485040"/>
                <a:tab algn="l" pos="7781760"/>
                <a:tab algn="l" pos="9078840"/>
                <a:tab algn="l" pos="103759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30 </a:t>
            </a:r>
            <a:r>
              <a:rPr b="1" lang="ru-RU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декабря 2013 года принята региональная программа капитального ремонта Республики Хакасия</a:t>
            </a:r>
            <a:br>
              <a:rPr sz="1800"/>
            </a:br>
            <a:r>
              <a:rPr b="1" lang="ru-RU" sz="1800" spc="-1" strike="noStrike">
                <a:solidFill>
                  <a:srgbClr val="404040"/>
                </a:solidFill>
                <a:latin typeface="Helios regular"/>
                <a:ea typeface="Tahoma"/>
              </a:rPr>
              <a:t>(постановление Правительства Республики Хакасия № 73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1357200" y="2428920"/>
            <a:ext cx="2071800" cy="71424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002060"/>
              </a:gs>
              <a:gs pos="100000">
                <a:srgbClr val="005da2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  <a:ea typeface="Tahoma"/>
              </a:rPr>
              <a:t>r-19.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6"/>
          <p:cNvSpPr/>
          <p:nvPr/>
        </p:nvSpPr>
        <p:spPr>
          <a:xfrm>
            <a:off x="1357200" y="3643200"/>
            <a:ext cx="2071800" cy="71460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002060"/>
              </a:gs>
              <a:gs pos="100000">
                <a:srgbClr val="005da2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minregion19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1357200" y="4786200"/>
            <a:ext cx="2071800" cy="71460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002060"/>
              </a:gs>
              <a:gs pos="100000">
                <a:srgbClr val="005da2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kapremont19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капремонт19.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9"/>
          <p:cNvSpPr/>
          <p:nvPr/>
        </p:nvSpPr>
        <p:spPr>
          <a:xfrm>
            <a:off x="3429000" y="3141720"/>
            <a:ext cx="52862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0"/>
          <p:cNvSpPr/>
          <p:nvPr/>
        </p:nvSpPr>
        <p:spPr>
          <a:xfrm>
            <a:off x="3357720" y="4357800"/>
            <a:ext cx="52862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11"/>
          <p:cNvSpPr/>
          <p:nvPr/>
        </p:nvSpPr>
        <p:spPr>
          <a:xfrm>
            <a:off x="3429000" y="5500800"/>
            <a:ext cx="52862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1"/>
          <p:cNvSpPr/>
          <p:nvPr/>
        </p:nvSpPr>
        <p:spPr>
          <a:xfrm>
            <a:off x="1000080" y="2858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Helios regular"/>
              </a:rPr>
              <a:t>ПОШАГОВАЯ СХЕМА ВАШИ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5"/>
          <p:cNvSpPr/>
          <p:nvPr/>
        </p:nvSpPr>
        <p:spPr>
          <a:xfrm>
            <a:off x="2643120" y="1928880"/>
            <a:ext cx="6429600" cy="307188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5d7430"/>
              </a:gs>
              <a:gs pos="100000">
                <a:srgbClr val="d1c39f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Helios regular"/>
                <a:ea typeface="Tahoma"/>
              </a:rPr>
              <a:t>Уведомить собственников МКД  о решениях, принятых очным/заочным голосованием не позднее чем через </a:t>
            </a:r>
            <a:r>
              <a:rPr b="1" lang="ru-RU" sz="2400" spc="-1" strike="noStrike">
                <a:solidFill>
                  <a:srgbClr val="ff0000"/>
                </a:solidFill>
                <a:latin typeface="Helios regular"/>
                <a:ea typeface="Tahoma"/>
              </a:rPr>
              <a:t>10 дней </a:t>
            </a:r>
            <a:r>
              <a:rPr b="1" lang="ru-RU" sz="2400" spc="-1" strike="noStrike">
                <a:solidFill>
                  <a:srgbClr val="ffffff"/>
                </a:solidFill>
                <a:latin typeface="Helios regular"/>
                <a:ea typeface="Tahoma"/>
              </a:rPr>
              <a:t>со дня их при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ahoma"/>
                <a:ea typeface="Tahoma"/>
              </a:rPr>
              <a:t>Образец Уведомления можно скачать зде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6"/>
          <p:cNvSpPr/>
          <p:nvPr/>
        </p:nvSpPr>
        <p:spPr>
          <a:xfrm>
            <a:off x="500040" y="2428920"/>
            <a:ext cx="2043000" cy="1857240"/>
          </a:xfrm>
          <a:prstGeom prst="roundRect">
            <a:avLst>
              <a:gd name="adj" fmla="val 5403"/>
            </a:avLst>
          </a:prstGeom>
          <a:solidFill>
            <a:srgbClr val="604a7b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  <a:ea typeface="Tahoma"/>
              </a:rPr>
              <a:t>8 Ш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000080" y="2858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Helios regular"/>
              </a:rPr>
              <a:t>ПОШАГОВАЯ СХЕМА ВАШИ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/>
          <p:cNvSpPr/>
          <p:nvPr/>
        </p:nvSpPr>
        <p:spPr>
          <a:xfrm>
            <a:off x="2214720" y="1643040"/>
            <a:ext cx="6858000" cy="228600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66ae1e"/>
              </a:gs>
              <a:gs pos="100000">
                <a:srgbClr val="377a1c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Helios regular"/>
                <a:ea typeface="Tahoma"/>
              </a:rPr>
              <a:t>Заключить догов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6"/>
          <p:cNvSpPr/>
          <p:nvPr/>
        </p:nvSpPr>
        <p:spPr>
          <a:xfrm>
            <a:off x="500040" y="2000160"/>
            <a:ext cx="1571760" cy="142884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5d7430"/>
              </a:gs>
              <a:gs pos="100000">
                <a:srgbClr val="d1c39f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9 Ш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428760" y="4071960"/>
            <a:ext cx="871524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Helios regular"/>
              </a:rPr>
              <a:t>1)Если Собственники выбрали способ формирования фонда капитального ремонта н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Helios regular"/>
              </a:rPr>
              <a:t>счете Регионального операто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Helios regular"/>
              </a:rPr>
              <a:t>2)Если Собственники выбрали способ формирования фонда капитального ремонта на специальном счете, открытом Региональным оператором только для этого МК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Helios regular"/>
              </a:rPr>
              <a:t>Образцы договоров можно скачать на сайте РЕГИОНАЛЬНОГО ОПЕРАТОРА </a:t>
            </a:r>
            <a:r>
              <a:rPr b="1" lang="ru-RU" sz="1500" spc="-1" strike="noStrike">
                <a:solidFill>
                  <a:srgbClr val="2a0f8f"/>
                </a:solidFill>
                <a:latin typeface="Helios regular"/>
              </a:rPr>
              <a:t>капремонт</a:t>
            </a:r>
            <a:r>
              <a:rPr b="1" lang="en-US" sz="1500" spc="-1" strike="noStrike">
                <a:solidFill>
                  <a:srgbClr val="2a0f8f"/>
                </a:solidFill>
                <a:latin typeface="Helios regular"/>
              </a:rPr>
              <a:t>19</a:t>
            </a:r>
            <a:r>
              <a:rPr b="1" lang="ru-RU" sz="1500" spc="-1" strike="noStrike">
                <a:solidFill>
                  <a:srgbClr val="2a0f8f"/>
                </a:solidFill>
                <a:latin typeface="Helios regular"/>
              </a:rPr>
              <a:t>.рф </a:t>
            </a:r>
            <a:r>
              <a:rPr b="1" lang="en-US" sz="1500" spc="-1" strike="noStrike">
                <a:solidFill>
                  <a:srgbClr val="2a0f8f"/>
                </a:solidFill>
                <a:latin typeface="Helios regular"/>
              </a:rPr>
              <a:t>      Kapremont19.r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2260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Helios regular"/>
                <a:ea typeface="Tahoma"/>
              </a:rPr>
              <a:t>Собственникам помещений в МКД нужно будет вместе реши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Helios regular"/>
                <a:ea typeface="Tahoma"/>
              </a:rPr>
              <a:t>Где и как будут накапливаться Ваши взносы на капитальный ремонт д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4"/>
          <p:cNvSpPr/>
          <p:nvPr/>
        </p:nvSpPr>
        <p:spPr>
          <a:xfrm>
            <a:off x="1386000" y="357120"/>
            <a:ext cx="7329240" cy="101772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97080"/>
                <a:tab algn="l" pos="2593800"/>
                <a:tab algn="l" pos="3890880"/>
                <a:tab algn="l" pos="5187960"/>
                <a:tab algn="l" pos="6485040"/>
                <a:tab algn="l" pos="7781760"/>
                <a:tab algn="l" pos="9078840"/>
                <a:tab algn="l" pos="1037592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Helios regular"/>
                <a:ea typeface="Tahoma"/>
              </a:rPr>
              <a:t>После опубликования региональной программы у собственников есть </a:t>
            </a:r>
            <a:r>
              <a:rPr b="1" lang="ru-RU" sz="1600" spc="-1" strike="noStrike">
                <a:solidFill>
                  <a:srgbClr val="ff0000"/>
                </a:solidFill>
                <a:latin typeface="Helios regular"/>
                <a:ea typeface="Tahoma"/>
              </a:rPr>
              <a:t>6 месяцев </a:t>
            </a:r>
            <a:r>
              <a:rPr b="1" lang="ru-RU" sz="1600" spc="-1" strike="noStrike">
                <a:solidFill>
                  <a:srgbClr val="404040"/>
                </a:solidFill>
                <a:latin typeface="Helios regular"/>
                <a:ea typeface="Tahoma"/>
              </a:rPr>
              <a:t>для определения способа формирования фонда капитального ремонта (Федеральный закон от 28.12.2013 № 417-Ф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Helios regular"/>
              </a:rPr>
              <a:t>ПОШАГОВАЯ СХЕМА ВАШИХ ДЕЙСТ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571680" y="2428920"/>
            <a:ext cx="2017440" cy="185724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66ae1e"/>
              </a:gs>
              <a:gs pos="100000">
                <a:srgbClr val="377a1c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  <a:ea typeface="Tahoma"/>
              </a:rPr>
              <a:t>1 Ш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7"/>
          <p:cNvSpPr/>
          <p:nvPr/>
        </p:nvSpPr>
        <p:spPr>
          <a:xfrm>
            <a:off x="2643120" y="1928880"/>
            <a:ext cx="6429600" cy="3071880"/>
          </a:xfrm>
          <a:prstGeom prst="roundRect">
            <a:avLst>
              <a:gd name="adj" fmla="val 5403"/>
            </a:avLst>
          </a:prstGeom>
          <a:gradFill rotWithShape="0">
            <a:gsLst>
              <a:gs pos="0">
                <a:srgbClr val="ff860d"/>
              </a:gs>
              <a:gs pos="100000">
                <a:srgbClr val="de740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ИНИЦИИРОВАТЬ ОБЩЕЕ СОБРАНИЕ СОБСТВЕННИКОВ МКД!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Инициатором собрания могут выступ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совет МК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председатель, правление ТСЖ или Ж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инициативная группа из числа собствен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собственник МК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орган местного самоуправления (если через два месяца после официального опубликования региональной Программы собственники сами не организовали собра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1"/>
          <p:cNvSpPr/>
          <p:nvPr/>
        </p:nvSpPr>
        <p:spPr>
          <a:xfrm>
            <a:off x="1000080" y="2858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Helios regular"/>
              </a:rPr>
              <a:t>ПОШАГОВАЯ СХЕМА ВАШИ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5"/>
          <p:cNvSpPr/>
          <p:nvPr/>
        </p:nvSpPr>
        <p:spPr>
          <a:xfrm>
            <a:off x="2643120" y="1928880"/>
            <a:ext cx="6429600" cy="3071880"/>
          </a:xfrm>
          <a:prstGeom prst="roundRect">
            <a:avLst>
              <a:gd name="adj" fmla="val 5403"/>
            </a:avLst>
          </a:prstGeom>
          <a:solidFill>
            <a:srgbClr val="25599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Helios regular"/>
                <a:ea typeface="Tahoma"/>
              </a:rPr>
              <a:t>Подготовить СООБЩ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Helios regular"/>
                <a:ea typeface="Tahoma"/>
              </a:rPr>
              <a:t>Это сообщение о проведении собр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Helios regular"/>
                <a:ea typeface="Tahoma"/>
              </a:rPr>
              <a:t>собственников МКД с указ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Helios regular"/>
                <a:ea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Helios regular"/>
                <a:ea typeface="Tahoma"/>
              </a:rPr>
              <a:t>вопросов повестки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Helios regular"/>
                <a:ea typeface="Tahoma"/>
                <a:hlinkClick r:id="rId1"/>
              </a:rPr>
              <a:t>Образец сообщения можно скачать зд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6"/>
          <p:cNvSpPr/>
          <p:nvPr/>
        </p:nvSpPr>
        <p:spPr>
          <a:xfrm>
            <a:off x="500040" y="2428920"/>
            <a:ext cx="2043000" cy="1857240"/>
          </a:xfrm>
          <a:prstGeom prst="roundRect">
            <a:avLst>
              <a:gd name="adj" fmla="val 5403"/>
            </a:avLst>
          </a:prstGeom>
          <a:solidFill>
            <a:srgbClr val="e46c0a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  <a:ea typeface="Tahoma"/>
              </a:rPr>
              <a:t>2 Ш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1"/>
          <p:cNvSpPr/>
          <p:nvPr/>
        </p:nvSpPr>
        <p:spPr>
          <a:xfrm>
            <a:off x="1000080" y="2858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Helios regular"/>
              </a:rPr>
              <a:t>ПОШАГОВАЯ СХЕМА ВАШИ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2643120" y="1928880"/>
            <a:ext cx="6429600" cy="3071880"/>
          </a:xfrm>
          <a:prstGeom prst="roundRect">
            <a:avLst>
              <a:gd name="adj" fmla="val 5403"/>
            </a:avLst>
          </a:prstGeom>
          <a:solidFill>
            <a:srgbClr val="d99694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Helios regular"/>
                <a:ea typeface="Tahoma"/>
              </a:rPr>
              <a:t>Направить СООБЩ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Helios regular"/>
                <a:ea typeface="Tahoma"/>
              </a:rPr>
              <a:t>О проведении общего собрания собственников МКД не позд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Helios regular"/>
                <a:ea typeface="Tahoma"/>
              </a:rPr>
              <a:t>10 дней</a:t>
            </a:r>
            <a:r>
              <a:rPr b="1" lang="ru-RU" sz="1800" spc="-1" strike="noStrike">
                <a:solidFill>
                  <a:srgbClr val="ffffff"/>
                </a:solidFill>
                <a:latin typeface="Helios regular"/>
                <a:ea typeface="Tahoma"/>
              </a:rPr>
              <a:t> до даты проведения общего собрания собствен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6"/>
          <p:cNvSpPr/>
          <p:nvPr/>
        </p:nvSpPr>
        <p:spPr>
          <a:xfrm>
            <a:off x="500040" y="2428920"/>
            <a:ext cx="2043000" cy="1857240"/>
          </a:xfrm>
          <a:prstGeom prst="roundRect">
            <a:avLst>
              <a:gd name="adj" fmla="val 5403"/>
            </a:avLst>
          </a:prstGeom>
          <a:solidFill>
            <a:srgbClr val="25599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  <a:ea typeface="Tahoma"/>
              </a:rPr>
              <a:t>3 Ш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1"/>
          <p:cNvSpPr/>
          <p:nvPr/>
        </p:nvSpPr>
        <p:spPr>
          <a:xfrm>
            <a:off x="1000080" y="2858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Helios regular"/>
              </a:rPr>
              <a:t>ПОШАГОВАЯ СХЕМА ВАШИ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5"/>
          <p:cNvSpPr/>
          <p:nvPr/>
        </p:nvSpPr>
        <p:spPr>
          <a:xfrm>
            <a:off x="2071800" y="1428840"/>
            <a:ext cx="6858000" cy="1857240"/>
          </a:xfrm>
          <a:prstGeom prst="roundRect">
            <a:avLst>
              <a:gd name="adj" fmla="val 5403"/>
            </a:avLst>
          </a:prstGeom>
          <a:solidFill>
            <a:srgbClr val="8eb4e3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Helios regular"/>
                <a:ea typeface="Tahoma"/>
              </a:rPr>
              <a:t>Провести общее собрание собственников МКД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Helios regular"/>
                <a:ea typeface="Tahoma"/>
              </a:rPr>
              <a:t>в очной фор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6"/>
          <p:cNvSpPr/>
          <p:nvPr/>
        </p:nvSpPr>
        <p:spPr>
          <a:xfrm>
            <a:off x="571680" y="1714680"/>
            <a:ext cx="1414440" cy="1285560"/>
          </a:xfrm>
          <a:prstGeom prst="roundRect">
            <a:avLst>
              <a:gd name="adj" fmla="val 5403"/>
            </a:avLst>
          </a:prstGeom>
          <a:solidFill>
            <a:srgbClr val="d99694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500040" y="3071880"/>
            <a:ext cx="864396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ios regula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Helios regular"/>
              </a:rPr>
              <a:t>Собрание проводится при совместном присутствии собственников МКД. Решения принимаются открытым голосованием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Helios regular"/>
              </a:rPr>
              <a:t>2) Участники собрания проходят регистрацию, которая фиксируется в реестре и прилагается к Протоколу собрания. </a:t>
            </a:r>
            <a:r>
              <a:rPr b="0" lang="ru-RU" sz="1500" spc="-1" strike="noStrike" u="sng">
                <a:solidFill>
                  <a:srgbClr val="0000ff"/>
                </a:solidFill>
                <a:uFillTx/>
                <a:latin typeface="Helios regular"/>
                <a:hlinkClick r:id="rId1"/>
              </a:rPr>
              <a:t>(Образец реестра регистрации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Helios regular"/>
                <a:hlinkClick r:id="rId2"/>
              </a:rPr>
              <a:t> </a:t>
            </a:r>
            <a:r>
              <a:rPr b="0" lang="ru-RU" sz="1500" spc="-1" strike="noStrike" u="sng">
                <a:solidFill>
                  <a:srgbClr val="0000ff"/>
                </a:solidFill>
                <a:uFillTx/>
                <a:latin typeface="Helios regular"/>
                <a:hlinkClick r:id="rId3"/>
              </a:rPr>
              <a:t>можно скачать здесь</a:t>
            </a:r>
            <a:r>
              <a:rPr b="0" lang="ru-RU" sz="1500" spc="-1" strike="noStrike" u="sng">
                <a:solidFill>
                  <a:srgbClr val="0000ff"/>
                </a:solidFill>
                <a:uFillTx/>
                <a:latin typeface="Helios regular"/>
                <a:hlinkClick r:id="rId4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Helios regular"/>
              </a:rPr>
              <a:t>3) Собрание считается правомочным при участии 2/3 собственников, от общего числа голосов. Количество голосов определяется исходя из общей площади помещения собственника, то есть, чем большей площадью помещений в МКД владеет собственник, тем больше у него голосов на собран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Helios regular"/>
              </a:rPr>
              <a:t>4) Учет голосов по вопросам повестки дня ведется председателем или секретарем собрания (либо счетной комиссией, при ее наличии) и фиксируется в протоколе общего собра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1"/>
          <p:cNvSpPr/>
          <p:nvPr/>
        </p:nvSpPr>
        <p:spPr>
          <a:xfrm>
            <a:off x="1000080" y="2858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Helios regular"/>
              </a:rPr>
              <a:t>ПОШАГОВАЯ СХЕМА ВАШИ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4"/>
          <p:cNvSpPr/>
          <p:nvPr/>
        </p:nvSpPr>
        <p:spPr>
          <a:xfrm>
            <a:off x="2071800" y="1428840"/>
            <a:ext cx="6858000" cy="1857240"/>
          </a:xfrm>
          <a:prstGeom prst="roundRect">
            <a:avLst>
              <a:gd name="adj" fmla="val 5403"/>
            </a:avLst>
          </a:prstGeom>
          <a:solidFill>
            <a:srgbClr val="ff7c8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Helios regular"/>
                <a:ea typeface="Tahoma"/>
              </a:rPr>
              <a:t>Провести общее собрание собственников МКД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Helios regular"/>
                <a:ea typeface="Tahoma"/>
              </a:rPr>
              <a:t>в заочной фор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7"/>
          <p:cNvSpPr/>
          <p:nvPr/>
        </p:nvSpPr>
        <p:spPr>
          <a:xfrm>
            <a:off x="571680" y="1714680"/>
            <a:ext cx="1414440" cy="1285560"/>
          </a:xfrm>
          <a:prstGeom prst="roundRect">
            <a:avLst>
              <a:gd name="adj" fmla="val 5403"/>
            </a:avLst>
          </a:prstGeom>
          <a:solidFill>
            <a:srgbClr val="95b3d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5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571680" y="3357720"/>
            <a:ext cx="8572320" cy="33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Helios regular"/>
              </a:rPr>
              <a:t>В случае, если не удалось провести очного голосования на общем собрании (например, отсутствовал кворум), провести голосование собственников можно в заочной форме, предварительно направив собственникам Сообщение о заочном голосовании </a:t>
            </a:r>
            <a:r>
              <a:rPr b="0" lang="ru-RU" sz="1500" spc="-1" strike="noStrike" u="sng">
                <a:solidFill>
                  <a:srgbClr val="0000ff"/>
                </a:solidFill>
                <a:uFillTx/>
                <a:latin typeface="Helios regular"/>
                <a:hlinkClick r:id="rId1"/>
              </a:rPr>
              <a:t>(</a:t>
            </a:r>
            <a:r>
              <a:rPr b="0" lang="ru-RU" sz="1500" spc="-1" strike="noStrike" u="sng">
                <a:solidFill>
                  <a:srgbClr val="0000ff"/>
                </a:solidFill>
                <a:uFillTx/>
                <a:latin typeface="Helios regular"/>
                <a:hlinkClick r:id="rId2"/>
              </a:rPr>
              <a:t>образец Сообщения  можно скачать здесь</a:t>
            </a:r>
            <a:r>
              <a:rPr b="0" lang="ru-RU" sz="1500" spc="-1" strike="noStrike" u="sng">
                <a:solidFill>
                  <a:srgbClr val="0000ff"/>
                </a:solidFill>
                <a:uFillTx/>
                <a:latin typeface="Helios regular"/>
                <a:hlinkClick r:id="rId3"/>
              </a:rPr>
              <a:t>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Helios regular"/>
                <a:hlinkClick r:id="rId4"/>
              </a:rPr>
              <a:t>)</a:t>
            </a:r>
            <a:r>
              <a:rPr b="1" lang="ru-RU" sz="1500" spc="-1" strike="noStrike">
                <a:solidFill>
                  <a:srgbClr val="ff0000"/>
                </a:solidFill>
                <a:latin typeface="Helios regular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Helios regular"/>
              </a:rPr>
              <a:t>1)Заочное голосование осуществляется письменно и решение собственника заносится в решении (</a:t>
            </a:r>
            <a:r>
              <a:rPr b="1" lang="ru-RU" sz="1500" spc="-1" strike="noStrike">
                <a:solidFill>
                  <a:srgbClr val="255997"/>
                </a:solidFill>
                <a:latin typeface="Helios regular"/>
              </a:rPr>
              <a:t>образец Решения можно скачать здесь)</a:t>
            </a:r>
            <a:r>
              <a:rPr b="1" lang="ru-RU" sz="1500" spc="-1" strike="noStrike">
                <a:solidFill>
                  <a:srgbClr val="000000"/>
                </a:solidFill>
                <a:latin typeface="Helios regular"/>
              </a:rPr>
              <a:t>, затем бюллетень передается лицам, инициирующим собрани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Helios regular"/>
              </a:rPr>
              <a:t>2) Заочное голосование считается правомочным, если поступило бюллетеней от собственников, обладающих не менее 2/3 голосов от общего числа голосов в МКД. Бюллетени учитываются, если они сданы до даты окончания их приема, указанной в сообщении о проведении заочного голосова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Заголовок 1"/>
          <p:cNvSpPr/>
          <p:nvPr/>
        </p:nvSpPr>
        <p:spPr>
          <a:xfrm>
            <a:off x="1000080" y="2858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Helios regular"/>
              </a:rPr>
              <a:t>ПОШАГОВАЯ СХЕМА ВАШИ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5"/>
          <p:cNvSpPr/>
          <p:nvPr/>
        </p:nvSpPr>
        <p:spPr>
          <a:xfrm>
            <a:off x="2643120" y="1928880"/>
            <a:ext cx="6429600" cy="3071880"/>
          </a:xfrm>
          <a:prstGeom prst="roundRect">
            <a:avLst>
              <a:gd name="adj" fmla="val 5403"/>
            </a:avLst>
          </a:prstGeom>
          <a:solidFill>
            <a:srgbClr val="37609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Helios regular"/>
                <a:ea typeface="Tahoma"/>
              </a:rPr>
              <a:t>Оформить Протокол общего собрания собственников МК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ahoma"/>
                <a:ea typeface="Tahoma"/>
              </a:rPr>
              <a:t>Образец Протокола можно скачать зд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6"/>
          <p:cNvSpPr/>
          <p:nvPr/>
        </p:nvSpPr>
        <p:spPr>
          <a:xfrm>
            <a:off x="500040" y="2428920"/>
            <a:ext cx="2043000" cy="1857240"/>
          </a:xfrm>
          <a:prstGeom prst="roundRect">
            <a:avLst>
              <a:gd name="adj" fmla="val 5403"/>
            </a:avLst>
          </a:prstGeom>
          <a:solidFill>
            <a:srgbClr val="ff7c8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  <a:ea typeface="Tahoma"/>
              </a:rPr>
              <a:t>6 Ш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1"/>
          <p:cNvSpPr/>
          <p:nvPr/>
        </p:nvSpPr>
        <p:spPr>
          <a:xfrm>
            <a:off x="1000080" y="2858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Helios regular"/>
              </a:rPr>
              <a:t>ПОШАГОВАЯ СХЕМА ВАШИ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2071800" y="1428840"/>
            <a:ext cx="6858000" cy="1857240"/>
          </a:xfrm>
          <a:prstGeom prst="roundRect">
            <a:avLst>
              <a:gd name="adj" fmla="val 5403"/>
            </a:avLst>
          </a:prstGeom>
          <a:solidFill>
            <a:srgbClr val="604a7b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Helios regular"/>
                <a:ea typeface="Tahoma"/>
              </a:rPr>
              <a:t>Направить копию Протокол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7"/>
          <p:cNvSpPr/>
          <p:nvPr/>
        </p:nvSpPr>
        <p:spPr>
          <a:xfrm>
            <a:off x="571680" y="1714680"/>
            <a:ext cx="1414440" cy="1285560"/>
          </a:xfrm>
          <a:prstGeom prst="roundRect">
            <a:avLst>
              <a:gd name="adj" fmla="val 5403"/>
            </a:avLst>
          </a:prstGeom>
          <a:solidFill>
            <a:srgbClr val="25599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7 Ш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5"/>
          <p:cNvSpPr/>
          <p:nvPr/>
        </p:nvSpPr>
        <p:spPr>
          <a:xfrm>
            <a:off x="285840" y="3857760"/>
            <a:ext cx="4214880" cy="2786040"/>
          </a:xfrm>
          <a:prstGeom prst="roundRect">
            <a:avLst>
              <a:gd name="adj" fmla="val 5403"/>
            </a:avLst>
          </a:prstGeom>
          <a:solidFill>
            <a:srgbClr val="604a7b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Helios regular"/>
                <a:ea typeface="Tahoma"/>
              </a:rPr>
              <a:t>В течение </a:t>
            </a:r>
            <a:r>
              <a:rPr b="1" lang="ru-RU" sz="1800" spc="-1" strike="noStrike">
                <a:solidFill>
                  <a:srgbClr val="ff0000"/>
                </a:solidFill>
                <a:latin typeface="Helios regular"/>
                <a:ea typeface="Tahoma"/>
              </a:rPr>
              <a:t>5 рабочих дней </a:t>
            </a:r>
            <a:r>
              <a:rPr b="1" lang="ru-RU" sz="1800" spc="-1" strike="noStrike">
                <a:solidFill>
                  <a:srgbClr val="ffffff"/>
                </a:solidFill>
                <a:latin typeface="Helios regular"/>
                <a:ea typeface="Tahoma"/>
              </a:rPr>
              <a:t>после принятия решения </a:t>
            </a:r>
            <a:r>
              <a:rPr b="1" lang="ru-RU" sz="1800" spc="-1" strike="noStrike">
                <a:solidFill>
                  <a:srgbClr val="ff0000"/>
                </a:solidFill>
                <a:latin typeface="Helios regular"/>
                <a:ea typeface="Tahoma"/>
              </a:rPr>
              <a:t>в адрес РЕГИОНАЛЬНОГО ОПЕРАТОРА</a:t>
            </a:r>
            <a:r>
              <a:rPr b="1" lang="ru-RU" sz="1800" spc="-1" strike="noStrike">
                <a:solidFill>
                  <a:srgbClr val="ffffff"/>
                </a:solidFill>
                <a:latin typeface="Helios regular"/>
                <a:ea typeface="Tahoma"/>
              </a:rPr>
              <a:t>, если собственники решили накапливать взносы на капремонт на счете ( или специальном счете) РЕГИОНАЛЬНОГО ОПЕРАТОРА - ФОНД КАПИТАЛЬНОГО РЕМ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9"/>
          <p:cNvSpPr/>
          <p:nvPr/>
        </p:nvSpPr>
        <p:spPr>
          <a:xfrm>
            <a:off x="4714920" y="3857760"/>
            <a:ext cx="4214880" cy="2786040"/>
          </a:xfrm>
          <a:prstGeom prst="roundRect">
            <a:avLst>
              <a:gd name="adj" fmla="val 5403"/>
            </a:avLst>
          </a:prstGeom>
          <a:solidFill>
            <a:srgbClr val="604a7b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Helios regular"/>
                <a:ea typeface="Tahoma"/>
              </a:rPr>
              <a:t>В течение </a:t>
            </a:r>
            <a:r>
              <a:rPr b="1" lang="ru-RU" sz="1800" spc="-1" strike="noStrike">
                <a:solidFill>
                  <a:srgbClr val="ff0000"/>
                </a:solidFill>
                <a:latin typeface="Helios regular"/>
                <a:ea typeface="Tahoma"/>
              </a:rPr>
              <a:t>5 рабочих дней </a:t>
            </a:r>
            <a:r>
              <a:rPr b="1" lang="ru-RU" sz="1800" spc="-1" strike="noStrike">
                <a:solidFill>
                  <a:srgbClr val="ffffff"/>
                </a:solidFill>
                <a:latin typeface="Helios regular"/>
                <a:ea typeface="Tahoma"/>
              </a:rPr>
              <a:t>после открытия специального </a:t>
            </a:r>
            <a:r>
              <a:rPr b="1" lang="ru-RU" sz="1800" spc="-1" strike="noStrike">
                <a:solidFill>
                  <a:srgbClr val="ff0000"/>
                </a:solidFill>
                <a:latin typeface="Helios regular"/>
                <a:ea typeface="Tahoma"/>
              </a:rPr>
              <a:t>счета в адрес Государственной жилищной инспекции Республики Хакасия</a:t>
            </a:r>
            <a:r>
              <a:rPr b="1" lang="ru-RU" sz="1800" spc="-1" strike="noStrike">
                <a:solidFill>
                  <a:srgbClr val="ffffff"/>
                </a:solidFill>
                <a:latin typeface="Helios regular"/>
                <a:ea typeface="Tahoma"/>
              </a:rPr>
              <a:t>, если собственники решили накапливать взносы на капремонт на специальном счете в коммерческом ба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10"/>
          <p:cNvSpPr/>
          <p:nvPr/>
        </p:nvSpPr>
        <p:spPr>
          <a:xfrm>
            <a:off x="2714760" y="3286080"/>
            <a:ext cx="500040" cy="57168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2559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низ 11"/>
          <p:cNvSpPr/>
          <p:nvPr/>
        </p:nvSpPr>
        <p:spPr>
          <a:xfrm>
            <a:off x="6929280" y="3286080"/>
            <a:ext cx="500400" cy="5716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2559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08:55:47Z</dcterms:created>
  <dc:creator>1</dc:creator>
  <dc:description/>
  <dc:language>en-US</dc:language>
  <cp:lastModifiedBy>1</cp:lastModifiedBy>
  <dcterms:modified xsi:type="dcterms:W3CDTF">2014-01-24T08:35:15Z</dcterms:modified>
  <cp:revision>105</cp:revision>
  <dc:subject/>
  <dc:title>Слайд 1</dc:title>
</cp:coreProperties>
</file>